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3311-26E6-493D-8460-E569D006B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1D6F-DF66-4F6D-9334-C94B5F5DF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C3A3-3F04-4A0F-9305-998B3192E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2DE5-184B-4918-8982-DDE195B38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AA86-BF60-435E-8153-30413546D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BDA8-B3EC-4437-BF79-F4A439102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9BC4-9078-40A6-8E1C-AB28CED84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A6FD-CF94-465A-B453-0FB881D9B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01F6-ADF5-42CA-BFD1-8E266ECBA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3B0D-170B-4A4E-A52E-F61ABB3D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EF27-C6B9-4BE7-8EE7-54051BCF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C893-86F9-4722-807C-C028B4B2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B4F47-0668-4315-B219-95B300A46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403280" y="1817640"/>
          <a:ext cx="6696000" cy="5040000"/>
        </p:xfrm>
        <a:graphic>
          <a:graphicData uri="http://schemas.openxmlformats.org/drawingml/2006/table">
            <a:tbl>
              <a:tblPr/>
              <a:tblGrid>
                <a:gridCol w="6696000"/>
              </a:tblGrid>
              <a:tr h="50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MAX: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Z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4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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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6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48.0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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6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42.000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1.5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1476360" y="2997360"/>
            <a:ext cx="216000" cy="2087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360 h 2087280"/>
              <a:gd name="textAreaBottom" fmla="*/ 20329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stricciones de </a:t>
            </a:r>
            <a:r>
              <a:rPr b="0" lang="es-ES_tradnl" sz="4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 flipV="1">
            <a:off x="1692360" y="333360"/>
            <a:ext cx="0" cy="496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92360" y="5300640"/>
            <a:ext cx="6912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16000" y="260280"/>
            <a:ext cx="573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72360" y="5300640"/>
            <a:ext cx="573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89080" y="4437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17800" y="371628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89080" y="29973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6160" y="544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57800" y="544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549440" y="544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21080" y="544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2781360"/>
            <a:ext cx="7128000" cy="20876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2771640" y="333360"/>
            <a:ext cx="2448000" cy="597528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955200" y="4365720"/>
            <a:ext cx="76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8840" y="981000"/>
            <a:ext cx="76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87200" y="3860640"/>
            <a:ext cx="76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2560" y="2254320"/>
            <a:ext cx="18396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408600">
            <a:off x="258840" y="4215960"/>
            <a:ext cx="2881080" cy="2232000"/>
          </a:xfrm>
          <a:custGeom>
            <a:avLst/>
            <a:gdLst/>
            <a:ahLst/>
            <a:rect l="l" t="t" r="r" b="b"/>
            <a:pathLst>
              <a:path w="1277" h="2853">
                <a:moveTo>
                  <a:pt x="0" y="0"/>
                </a:moveTo>
                <a:lnTo>
                  <a:pt x="1277" y="2853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627280" y="5373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3564000" y="5373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4500720" y="5373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547640" y="4581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547640" y="38606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47640" y="3141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92360" y="4221000"/>
            <a:ext cx="68403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92360" y="3141720"/>
            <a:ext cx="2663640" cy="1079280"/>
          </a:xfrm>
          <a:custGeom>
            <a:avLst/>
            <a:gdLst/>
            <a:ahLst/>
            <a:rect l="l" t="t" r="r" b="b"/>
            <a:pathLst>
              <a:path w="1678" h="680">
                <a:moveTo>
                  <a:pt x="0" y="680"/>
                </a:moveTo>
                <a:lnTo>
                  <a:pt x="0" y="0"/>
                </a:lnTo>
                <a:lnTo>
                  <a:pt x="1587" y="453"/>
                </a:lnTo>
                <a:lnTo>
                  <a:pt x="1678" y="680"/>
                </a:lnTo>
                <a:lnTo>
                  <a:pt x="0" y="68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19280" y="5229360"/>
            <a:ext cx="144360" cy="144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19280" y="41497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1692360" y="429264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84720" y="41497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140360" y="37893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763640" y="4221000"/>
            <a:ext cx="2521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243320" y="3929040"/>
            <a:ext cx="90720" cy="209520"/>
          </a:xfrm>
          <a:custGeom>
            <a:avLst/>
            <a:gdLst/>
            <a:ahLst/>
            <a:rect l="l" t="t" r="r" b="b"/>
            <a:pathLst>
              <a:path w="57" h="132">
                <a:moveTo>
                  <a:pt x="57" y="13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1403280" y="1817640"/>
          <a:ext cx="6696000" cy="5040000"/>
        </p:xfrm>
        <a:graphic>
          <a:graphicData uri="http://schemas.openxmlformats.org/drawingml/2006/table">
            <a:tbl>
              <a:tblPr/>
              <a:tblGrid>
                <a:gridCol w="6696000"/>
              </a:tblGrid>
              <a:tr h="50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MAX: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Z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4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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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6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48.0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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6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42.000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 1.5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1476360" y="2997360"/>
            <a:ext cx="216000" cy="2087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360 h 2087280"/>
              <a:gd name="textAreaBottom" fmla="*/ 20329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stricciones de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468360" y="1817640"/>
          <a:ext cx="8351280" cy="5040000"/>
        </p:xfrm>
        <a:graphic>
          <a:graphicData uri="http://schemas.openxmlformats.org/drawingml/2006/table">
            <a:tbl>
              <a:tblPr/>
              <a:tblGrid>
                <a:gridCol w="8351280"/>
              </a:tblGrid>
              <a:tr h="50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MAX: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Z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4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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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6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x</a:t>
                      </a:r>
                      <a:r>
                        <a:rPr b="1" lang="es-ES_tradnl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=  48.0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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6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+ x</a:t>
                      </a:r>
                      <a:r>
                        <a:rPr b="1" lang="es-ES_tradnl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=  42.000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=  1.5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684360" y="2924280"/>
            <a:ext cx="215640" cy="2087280"/>
          </a:xfrm>
          <a:custGeom>
            <a:avLst/>
            <a:gdLst>
              <a:gd name="textAreaLeft" fmla="*/ 137880 w 215640"/>
              <a:gd name="textAreaRight" fmla="*/ 216000 w 215640"/>
              <a:gd name="textAreaTop" fmla="*/ 54360 h 2087280"/>
              <a:gd name="textAreaBottom" fmla="*/ 20329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orma estánd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468360" y="1817640"/>
          <a:ext cx="8351280" cy="5040000"/>
        </p:xfrm>
        <a:graphic>
          <a:graphicData uri="http://schemas.openxmlformats.org/drawingml/2006/table">
            <a:tbl>
              <a:tblPr/>
              <a:tblGrid>
                <a:gridCol w="8351280"/>
              </a:tblGrid>
              <a:tr h="50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s-ES_tradnl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=  48.000                          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s-ES_tradnl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=  42.000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 =    1.500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"/>
          <p:cNvSpPr/>
          <p:nvPr/>
        </p:nvSpPr>
        <p:spPr>
          <a:xfrm>
            <a:off x="755640" y="2349360"/>
            <a:ext cx="216000" cy="2087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IMERA BASE DEL “SIMPLEX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435640" y="3860640"/>
            <a:ext cx="504720" cy="287640"/>
          </a:xfrm>
          <a:prstGeom prst="rightArrow">
            <a:avLst>
              <a:gd name="adj1" fmla="val 50000"/>
              <a:gd name="adj2" fmla="val 43867"/>
            </a:avLst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227640" y="3716280"/>
            <a:ext cx="22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NO ES COMPAT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1116000" y="2781360"/>
          <a:ext cx="6121440" cy="3743280"/>
        </p:xfrm>
        <a:graphic>
          <a:graphicData uri="http://schemas.openxmlformats.org/drawingml/2006/table">
            <a:tbl>
              <a:tblPr/>
              <a:tblGrid>
                <a:gridCol w="6121440"/>
              </a:tblGrid>
              <a:tr h="469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s-ES_tradnl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=  48.000                          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s-ES_tradnl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=  42.000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</a:t>
                      </a:r>
                      <a:r>
                        <a:rPr b="1" lang="el-G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λ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   1.500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l-G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λ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"/>
          <p:cNvSpPr/>
          <p:nvPr/>
        </p:nvSpPr>
        <p:spPr>
          <a:xfrm>
            <a:off x="684360" y="2852640"/>
            <a:ext cx="215640" cy="2087640"/>
          </a:xfrm>
          <a:custGeom>
            <a:avLst/>
            <a:gdLst>
              <a:gd name="textAreaLeft" fmla="*/ 137880 w 215640"/>
              <a:gd name="textAreaRight" fmla="*/ 216000 w 21564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IMERA BASE DEL “SIMPLEX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23720" y="1628640"/>
            <a:ext cx="62848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99"/>
                </a:solidFill>
                <a:latin typeface="Arial"/>
              </a:rPr>
              <a:t>MAX: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    Z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 4 x</a:t>
            </a:r>
            <a:r>
              <a:rPr b="1" lang="es-ES_tradnl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 3 x</a:t>
            </a:r>
            <a:r>
              <a:rPr b="1" lang="es-ES_tradnl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 – M </a:t>
            </a:r>
            <a:r>
              <a:rPr b="1" lang="el-GR" sz="36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 flipV="1">
            <a:off x="1692360" y="333360"/>
            <a:ext cx="0" cy="496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692360" y="5300640"/>
            <a:ext cx="6912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116000" y="260280"/>
            <a:ext cx="573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172360" y="5300640"/>
            <a:ext cx="573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189080" y="4437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17800" y="371628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189080" y="29973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486160" y="544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357800" y="544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549440" y="544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421080" y="544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8360" y="2781360"/>
            <a:ext cx="7128000" cy="20876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2771640" y="333360"/>
            <a:ext cx="2448000" cy="597528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955200" y="4365720"/>
            <a:ext cx="76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38840" y="981000"/>
            <a:ext cx="76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387200" y="3860640"/>
            <a:ext cx="76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632560" y="2254320"/>
            <a:ext cx="18396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408600">
            <a:off x="258840" y="4215960"/>
            <a:ext cx="2881080" cy="2232000"/>
          </a:xfrm>
          <a:custGeom>
            <a:avLst/>
            <a:gdLst/>
            <a:ahLst/>
            <a:rect l="l" t="t" r="r" b="b"/>
            <a:pathLst>
              <a:path w="1277" h="2853">
                <a:moveTo>
                  <a:pt x="0" y="0"/>
                </a:moveTo>
                <a:lnTo>
                  <a:pt x="1277" y="2853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2627280" y="5373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3564000" y="5373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4500720" y="5373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547640" y="4581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547640" y="38606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47640" y="3141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92360" y="4221000"/>
            <a:ext cx="68403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619280" y="5229360"/>
            <a:ext cx="144360" cy="144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692360" y="4221000"/>
            <a:ext cx="26636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324000" y="189000"/>
          <a:ext cx="7530840" cy="1185840"/>
        </p:xfrm>
        <a:graphic>
          <a:graphicData uri="http://schemas.openxmlformats.org/drawingml/2006/table">
            <a:tbl>
              <a:tblPr/>
              <a:tblGrid>
                <a:gridCol w="784080"/>
                <a:gridCol w="777960"/>
                <a:gridCol w="977760"/>
                <a:gridCol w="822240"/>
                <a:gridCol w="820800"/>
                <a:gridCol w="822240"/>
                <a:gridCol w="824040"/>
                <a:gridCol w="824040"/>
                <a:gridCol w="87768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r>
                        <a:rPr b="1" lang="el-GR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a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324000" y="981000"/>
          <a:ext cx="7530840" cy="2008440"/>
        </p:xfrm>
        <a:graphic>
          <a:graphicData uri="http://schemas.openxmlformats.org/drawingml/2006/table">
            <a:tbl>
              <a:tblPr/>
              <a:tblGrid>
                <a:gridCol w="784080"/>
                <a:gridCol w="777960"/>
                <a:gridCol w="977760"/>
                <a:gridCol w="822240"/>
                <a:gridCol w="820800"/>
                <a:gridCol w="822240"/>
                <a:gridCol w="824040"/>
                <a:gridCol w="824040"/>
                <a:gridCol w="87768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=  - M 1.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M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+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6" name=""/>
          <p:cNvSpPr/>
          <p:nvPr/>
        </p:nvSpPr>
        <p:spPr>
          <a:xfrm>
            <a:off x="3995640" y="2565360"/>
            <a:ext cx="144720" cy="216000"/>
          </a:xfrm>
          <a:prstGeom prst="upArrow">
            <a:avLst>
              <a:gd name="adj1" fmla="val 50000"/>
              <a:gd name="adj2" fmla="val 373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0920" y="1916280"/>
            <a:ext cx="217440" cy="142560"/>
          </a:xfrm>
          <a:prstGeom prst="leftArrow">
            <a:avLst>
              <a:gd name="adj1" fmla="val 50000"/>
              <a:gd name="adj2" fmla="val 381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924360" y="1773360"/>
            <a:ext cx="360360" cy="36036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324000" y="2924280"/>
          <a:ext cx="7530840" cy="2247840"/>
        </p:xfrm>
        <a:graphic>
          <a:graphicData uri="http://schemas.openxmlformats.org/drawingml/2006/table">
            <a:tbl>
              <a:tblPr/>
              <a:tblGrid>
                <a:gridCol w="784080"/>
                <a:gridCol w="777960"/>
                <a:gridCol w="977760"/>
                <a:gridCol w="822240"/>
                <a:gridCol w="820800"/>
                <a:gridCol w="822240"/>
                <a:gridCol w="824040"/>
                <a:gridCol w="824040"/>
                <a:gridCol w="8776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=  4.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+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324000" y="5013360"/>
          <a:ext cx="7530840" cy="1982880"/>
        </p:xfrm>
        <a:graphic>
          <a:graphicData uri="http://schemas.openxmlformats.org/drawingml/2006/table">
            <a:tbl>
              <a:tblPr/>
              <a:tblGrid>
                <a:gridCol w="784080"/>
                <a:gridCol w="777960"/>
                <a:gridCol w="977760"/>
                <a:gridCol w="822240"/>
                <a:gridCol w="820800"/>
                <a:gridCol w="822240"/>
                <a:gridCol w="824040"/>
                <a:gridCol w="824040"/>
                <a:gridCol w="877680"/>
              </a:tblGrid>
              <a:tr h="44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8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= 15.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+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1" name=""/>
          <p:cNvSpPr/>
          <p:nvPr/>
        </p:nvSpPr>
        <p:spPr>
          <a:xfrm>
            <a:off x="3203640" y="4724280"/>
            <a:ext cx="144360" cy="216000"/>
          </a:xfrm>
          <a:prstGeom prst="upArrow">
            <a:avLst>
              <a:gd name="adj1" fmla="val 50000"/>
              <a:gd name="adj2" fmla="val 374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0920" y="3645000"/>
            <a:ext cx="217440" cy="142920"/>
          </a:xfrm>
          <a:prstGeom prst="leftArrow">
            <a:avLst>
              <a:gd name="adj1" fmla="val 50000"/>
              <a:gd name="adj2" fmla="val 3803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3500280"/>
            <a:ext cx="360360" cy="36036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 flipV="1">
            <a:off x="1692360" y="333360"/>
            <a:ext cx="0" cy="496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692360" y="5300640"/>
            <a:ext cx="6912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16000" y="260280"/>
            <a:ext cx="573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172360" y="5300640"/>
            <a:ext cx="573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080" y="4437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17800" y="371628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89080" y="29973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486160" y="544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357800" y="544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549440" y="544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421080" y="544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68360" y="2781360"/>
            <a:ext cx="7128000" cy="20876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2771640" y="333360"/>
            <a:ext cx="2448000" cy="597528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955200" y="4365720"/>
            <a:ext cx="76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138840" y="981000"/>
            <a:ext cx="76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387200" y="3860640"/>
            <a:ext cx="76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632560" y="2254320"/>
            <a:ext cx="18396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408600">
            <a:off x="258840" y="4215960"/>
            <a:ext cx="2881080" cy="2232000"/>
          </a:xfrm>
          <a:custGeom>
            <a:avLst/>
            <a:gdLst/>
            <a:ahLst/>
            <a:rect l="l" t="t" r="r" b="b"/>
            <a:pathLst>
              <a:path w="1277" h="2853">
                <a:moveTo>
                  <a:pt x="0" y="0"/>
                </a:moveTo>
                <a:lnTo>
                  <a:pt x="1277" y="2853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2627280" y="5373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3564000" y="5373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4500720" y="5373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47640" y="4581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47640" y="38606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547640" y="3141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2360" y="4221000"/>
            <a:ext cx="68403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19280" y="5229360"/>
            <a:ext cx="144360" cy="144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2360" y="4221000"/>
            <a:ext cx="26636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9280" y="41497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284720" y="41497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1692360" y="429264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763640" y="4221000"/>
            <a:ext cx="2521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284720" y="414972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SOS PARTICUL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SOLUCIÓN ALTERNA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SOLUCIÓN DEGENER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POLITOPO ABIER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SOLUCIÓN INCOMPATI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1332000" y="1125360"/>
          <a:ext cx="6696000" cy="5040000"/>
        </p:xfrm>
        <a:graphic>
          <a:graphicData uri="http://schemas.openxmlformats.org/drawingml/2006/table">
            <a:tbl>
              <a:tblPr/>
              <a:tblGrid>
                <a:gridCol w="6696000"/>
              </a:tblGrid>
              <a:tr h="50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MAX: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Z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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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6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48.0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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6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42.000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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9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36.0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1476360" y="2349360"/>
            <a:ext cx="216000" cy="2087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68360" y="1817640"/>
          <a:ext cx="8351280" cy="5040000"/>
        </p:xfrm>
        <a:graphic>
          <a:graphicData uri="http://schemas.openxmlformats.org/drawingml/2006/table">
            <a:tbl>
              <a:tblPr/>
              <a:tblGrid>
                <a:gridCol w="8351280"/>
              </a:tblGrid>
              <a:tr h="50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MAX: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Z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4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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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6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x</a:t>
                      </a:r>
                      <a:r>
                        <a:rPr b="1" lang="es-ES_tradnl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=  48.0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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6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+ x</a:t>
                      </a:r>
                      <a:r>
                        <a:rPr b="1" lang="es-ES_tradnl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=  42.000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– x</a:t>
                      </a:r>
                      <a:r>
                        <a:rPr b="1" lang="es-ES_tradnl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=  1.5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684360" y="2924280"/>
            <a:ext cx="215640" cy="2087280"/>
          </a:xfrm>
          <a:custGeom>
            <a:avLst/>
            <a:gdLst>
              <a:gd name="textAreaLeft" fmla="*/ 137880 w 215640"/>
              <a:gd name="textAreaRight" fmla="*/ 216000 w 215640"/>
              <a:gd name="textAreaTop" fmla="*/ 54360 h 2087280"/>
              <a:gd name="textAreaBottom" fmla="*/ 20329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orma estánd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 flipV="1">
            <a:off x="1692360" y="333360"/>
            <a:ext cx="0" cy="496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692360" y="5300640"/>
            <a:ext cx="6912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116000" y="260280"/>
            <a:ext cx="573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172360" y="5300640"/>
            <a:ext cx="573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189080" y="4437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117800" y="371628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189080" y="29973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486160" y="544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357800" y="544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549440" y="544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698480" y="3135240"/>
            <a:ext cx="3105360" cy="2162160"/>
          </a:xfrm>
          <a:custGeom>
            <a:avLst/>
            <a:gdLst/>
            <a:ahLst/>
            <a:rect l="l" t="t" r="r" b="b"/>
            <a:pathLst>
              <a:path w="1956" h="1362">
                <a:moveTo>
                  <a:pt x="9" y="1362"/>
                </a:moveTo>
                <a:lnTo>
                  <a:pt x="0" y="0"/>
                </a:lnTo>
                <a:lnTo>
                  <a:pt x="974" y="290"/>
                </a:lnTo>
                <a:lnTo>
                  <a:pt x="1764" y="905"/>
                </a:lnTo>
                <a:lnTo>
                  <a:pt x="1956" y="1362"/>
                </a:lnTo>
                <a:lnTo>
                  <a:pt x="9" y="1362"/>
                </a:lnTo>
                <a:close/>
              </a:path>
            </a:pathLst>
          </a:custGeom>
          <a:solidFill>
            <a:srgbClr val="333399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421080" y="544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1763640" y="4581360"/>
            <a:ext cx="2664000" cy="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500720" y="4653000"/>
            <a:ext cx="0" cy="64764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55640" y="1628640"/>
            <a:ext cx="5904000" cy="46087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68360" y="2781360"/>
            <a:ext cx="7128000" cy="20876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2771640" y="333360"/>
            <a:ext cx="2448000" cy="597528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692360" y="3141720"/>
            <a:ext cx="3105000" cy="2162160"/>
          </a:xfrm>
          <a:custGeom>
            <a:avLst/>
            <a:gdLst/>
            <a:ahLst/>
            <a:rect l="l" t="t" r="r" b="b"/>
            <a:pathLst>
              <a:path w="1956" h="1362">
                <a:moveTo>
                  <a:pt x="9" y="1362"/>
                </a:moveTo>
                <a:lnTo>
                  <a:pt x="0" y="0"/>
                </a:lnTo>
                <a:lnTo>
                  <a:pt x="974" y="290"/>
                </a:lnTo>
                <a:lnTo>
                  <a:pt x="1764" y="905"/>
                </a:lnTo>
                <a:lnTo>
                  <a:pt x="1956" y="1362"/>
                </a:lnTo>
                <a:lnTo>
                  <a:pt x="9" y="1362"/>
                </a:lnTo>
                <a:close/>
              </a:path>
            </a:pathLst>
          </a:custGeom>
          <a:solidFill>
            <a:srgbClr val="333399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523560" y="4221000"/>
            <a:ext cx="76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138840" y="981000"/>
            <a:ext cx="76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62480" y="1341360"/>
            <a:ext cx="76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632560" y="2254320"/>
            <a:ext cx="18396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716360" y="5229360"/>
            <a:ext cx="144720" cy="142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619280" y="3068640"/>
            <a:ext cx="144360" cy="142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619280" y="5229360"/>
            <a:ext cx="144360" cy="142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50920" y="4149720"/>
            <a:ext cx="2952720" cy="2374920"/>
          </a:xfrm>
          <a:custGeom>
            <a:avLst/>
            <a:gdLst/>
            <a:ahLst/>
            <a:rect l="l" t="t" r="r" b="b"/>
            <a:pathLst>
              <a:path w="1277" h="2853">
                <a:moveTo>
                  <a:pt x="0" y="0"/>
                </a:moveTo>
                <a:lnTo>
                  <a:pt x="1277" y="2853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2627280" y="5373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3564000" y="5373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4500720" y="5373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547640" y="4581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547640" y="38606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547640" y="3141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132000" y="3500280"/>
            <a:ext cx="144720" cy="142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427640" y="4508640"/>
            <a:ext cx="144360" cy="1425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 flipV="1">
            <a:off x="1692360" y="333360"/>
            <a:ext cx="0" cy="496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692360" y="5300640"/>
            <a:ext cx="6912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116000" y="260280"/>
            <a:ext cx="573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172360" y="5300640"/>
            <a:ext cx="573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189080" y="4437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117800" y="371628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189080" y="29973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486160" y="544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357800" y="544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549440" y="544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698480" y="3135240"/>
            <a:ext cx="3105360" cy="2162160"/>
          </a:xfrm>
          <a:custGeom>
            <a:avLst/>
            <a:gdLst/>
            <a:ahLst/>
            <a:rect l="l" t="t" r="r" b="b"/>
            <a:pathLst>
              <a:path w="1956" h="1362">
                <a:moveTo>
                  <a:pt x="9" y="1362"/>
                </a:moveTo>
                <a:lnTo>
                  <a:pt x="0" y="0"/>
                </a:lnTo>
                <a:lnTo>
                  <a:pt x="974" y="290"/>
                </a:lnTo>
                <a:lnTo>
                  <a:pt x="1764" y="905"/>
                </a:lnTo>
                <a:lnTo>
                  <a:pt x="1956" y="1362"/>
                </a:lnTo>
                <a:lnTo>
                  <a:pt x="9" y="1362"/>
                </a:lnTo>
                <a:close/>
              </a:path>
            </a:pathLst>
          </a:custGeom>
          <a:solidFill>
            <a:srgbClr val="333399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21080" y="544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1763640" y="4581360"/>
            <a:ext cx="2664000" cy="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500720" y="4653000"/>
            <a:ext cx="0" cy="64764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55640" y="1628640"/>
            <a:ext cx="5904000" cy="46087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8360" y="2781360"/>
            <a:ext cx="7128000" cy="20876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2771640" y="333360"/>
            <a:ext cx="2448000" cy="597528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692360" y="3141720"/>
            <a:ext cx="3105000" cy="2162160"/>
          </a:xfrm>
          <a:custGeom>
            <a:avLst/>
            <a:gdLst/>
            <a:ahLst/>
            <a:rect l="l" t="t" r="r" b="b"/>
            <a:pathLst>
              <a:path w="1956" h="1362">
                <a:moveTo>
                  <a:pt x="9" y="1362"/>
                </a:moveTo>
                <a:lnTo>
                  <a:pt x="0" y="0"/>
                </a:lnTo>
                <a:lnTo>
                  <a:pt x="974" y="290"/>
                </a:lnTo>
                <a:lnTo>
                  <a:pt x="1764" y="905"/>
                </a:lnTo>
                <a:lnTo>
                  <a:pt x="1956" y="1362"/>
                </a:lnTo>
                <a:lnTo>
                  <a:pt x="9" y="1362"/>
                </a:lnTo>
                <a:close/>
              </a:path>
            </a:pathLst>
          </a:custGeom>
          <a:solidFill>
            <a:srgbClr val="333399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23560" y="4221000"/>
            <a:ext cx="76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138840" y="981000"/>
            <a:ext cx="76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62480" y="1341360"/>
            <a:ext cx="76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632560" y="2254320"/>
            <a:ext cx="18396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294160" y="1413000"/>
            <a:ext cx="35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SOLUCIONES ALTERN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203640" y="3573360"/>
            <a:ext cx="1297080" cy="1008000"/>
          </a:xfrm>
          <a:custGeom>
            <a:avLst/>
            <a:gdLst/>
            <a:ahLst/>
            <a:rect l="l" t="t" r="r" b="b"/>
            <a:pathLst>
              <a:path w="3248" h="2511">
                <a:moveTo>
                  <a:pt x="0" y="0"/>
                </a:moveTo>
                <a:lnTo>
                  <a:pt x="3248" y="2511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427640" y="4508640"/>
            <a:ext cx="144360" cy="142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716360" y="5229360"/>
            <a:ext cx="144720" cy="142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19280" y="3068640"/>
            <a:ext cx="144360" cy="142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619280" y="5229360"/>
            <a:ext cx="144360" cy="142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50920" y="4149720"/>
            <a:ext cx="2952720" cy="2374920"/>
          </a:xfrm>
          <a:custGeom>
            <a:avLst/>
            <a:gdLst/>
            <a:ahLst/>
            <a:rect l="l" t="t" r="r" b="b"/>
            <a:pathLst>
              <a:path w="1277" h="2853">
                <a:moveTo>
                  <a:pt x="0" y="0"/>
                </a:moveTo>
                <a:lnTo>
                  <a:pt x="1277" y="2853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132000" y="3500280"/>
            <a:ext cx="1447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2627280" y="5373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3564000" y="5373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500720" y="5373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547640" y="4581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547640" y="38606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547640" y="3141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 flipV="1">
            <a:off x="1692360" y="333360"/>
            <a:ext cx="0" cy="496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692360" y="5300640"/>
            <a:ext cx="6912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116000" y="260280"/>
            <a:ext cx="573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172360" y="5300640"/>
            <a:ext cx="573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189080" y="4437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117800" y="371628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189080" y="29973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486160" y="544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357800" y="544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549440" y="544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698480" y="3135240"/>
            <a:ext cx="3105360" cy="2162160"/>
          </a:xfrm>
          <a:custGeom>
            <a:avLst/>
            <a:gdLst/>
            <a:ahLst/>
            <a:rect l="l" t="t" r="r" b="b"/>
            <a:pathLst>
              <a:path w="1956" h="1362">
                <a:moveTo>
                  <a:pt x="9" y="1362"/>
                </a:moveTo>
                <a:lnTo>
                  <a:pt x="0" y="0"/>
                </a:lnTo>
                <a:lnTo>
                  <a:pt x="974" y="290"/>
                </a:lnTo>
                <a:lnTo>
                  <a:pt x="1764" y="905"/>
                </a:lnTo>
                <a:lnTo>
                  <a:pt x="1956" y="1362"/>
                </a:lnTo>
                <a:lnTo>
                  <a:pt x="9" y="1362"/>
                </a:lnTo>
                <a:close/>
              </a:path>
            </a:pathLst>
          </a:custGeom>
          <a:solidFill>
            <a:srgbClr val="333399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421080" y="544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1763640" y="4581360"/>
            <a:ext cx="2664000" cy="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500720" y="4653000"/>
            <a:ext cx="0" cy="64764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55640" y="1628640"/>
            <a:ext cx="5904000" cy="46087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68360" y="2781360"/>
            <a:ext cx="7128000" cy="20876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 flipV="1">
            <a:off x="2771640" y="333360"/>
            <a:ext cx="2448000" cy="597528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692360" y="3141720"/>
            <a:ext cx="3105000" cy="2162160"/>
          </a:xfrm>
          <a:custGeom>
            <a:avLst/>
            <a:gdLst/>
            <a:ahLst/>
            <a:rect l="l" t="t" r="r" b="b"/>
            <a:pathLst>
              <a:path w="1956" h="1362">
                <a:moveTo>
                  <a:pt x="9" y="1362"/>
                </a:moveTo>
                <a:lnTo>
                  <a:pt x="0" y="0"/>
                </a:lnTo>
                <a:lnTo>
                  <a:pt x="974" y="290"/>
                </a:lnTo>
                <a:lnTo>
                  <a:pt x="1764" y="905"/>
                </a:lnTo>
                <a:lnTo>
                  <a:pt x="1956" y="1362"/>
                </a:lnTo>
                <a:lnTo>
                  <a:pt x="9" y="1362"/>
                </a:lnTo>
                <a:close/>
              </a:path>
            </a:pathLst>
          </a:custGeom>
          <a:solidFill>
            <a:srgbClr val="333399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523560" y="4221000"/>
            <a:ext cx="76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138840" y="981000"/>
            <a:ext cx="76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62480" y="1341360"/>
            <a:ext cx="76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632560" y="2254320"/>
            <a:ext cx="18396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203640" y="3573360"/>
            <a:ext cx="1297080" cy="1008000"/>
          </a:xfrm>
          <a:custGeom>
            <a:avLst/>
            <a:gdLst/>
            <a:ahLst/>
            <a:rect l="l" t="t" r="r" b="b"/>
            <a:pathLst>
              <a:path w="3248" h="2511">
                <a:moveTo>
                  <a:pt x="0" y="0"/>
                </a:moveTo>
                <a:lnTo>
                  <a:pt x="3248" y="2511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427640" y="4508640"/>
            <a:ext cx="144360" cy="142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716360" y="5229360"/>
            <a:ext cx="144720" cy="142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619280" y="3068640"/>
            <a:ext cx="144360" cy="142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619280" y="5229360"/>
            <a:ext cx="144360" cy="142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50920" y="4149720"/>
            <a:ext cx="2952720" cy="2374920"/>
          </a:xfrm>
          <a:custGeom>
            <a:avLst/>
            <a:gdLst/>
            <a:ahLst/>
            <a:rect l="l" t="t" r="r" b="b"/>
            <a:pathLst>
              <a:path w="1277" h="2853">
                <a:moveTo>
                  <a:pt x="0" y="0"/>
                </a:moveTo>
                <a:lnTo>
                  <a:pt x="1277" y="2853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132000" y="3500280"/>
            <a:ext cx="1447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2627280" y="5373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3564000" y="5373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4500720" y="5373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547640" y="4581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547640" y="38606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547640" y="3141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500720" y="4653000"/>
            <a:ext cx="0" cy="6476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1692360" y="4581360"/>
            <a:ext cx="273528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203640" y="3645000"/>
            <a:ext cx="0" cy="16556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1692000" y="3573360"/>
            <a:ext cx="143964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1692360" y="4149720"/>
            <a:ext cx="223200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924360" y="4149720"/>
            <a:ext cx="0" cy="11509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1" name=""/>
          <p:cNvGraphicFramePr/>
          <p:nvPr/>
        </p:nvGraphicFramePr>
        <p:xfrm>
          <a:off x="539640" y="1268280"/>
          <a:ext cx="8280360" cy="2767320"/>
        </p:xfrm>
        <a:graphic>
          <a:graphicData uri="http://schemas.openxmlformats.org/drawingml/2006/table">
            <a:tbl>
              <a:tblPr/>
              <a:tblGrid>
                <a:gridCol w="790560"/>
                <a:gridCol w="865440"/>
                <a:gridCol w="1083960"/>
                <a:gridCol w="912960"/>
                <a:gridCol w="912960"/>
                <a:gridCol w="912600"/>
                <a:gridCol w="914400"/>
                <a:gridCol w="912960"/>
                <a:gridCol w="97452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a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6/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4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/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0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/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= 12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2" name=""/>
          <p:cNvSpPr/>
          <p:nvPr/>
        </p:nvSpPr>
        <p:spPr>
          <a:xfrm>
            <a:off x="6372360" y="3645000"/>
            <a:ext cx="142920" cy="215640"/>
          </a:xfrm>
          <a:prstGeom prst="upArrow">
            <a:avLst>
              <a:gd name="adj1" fmla="val 50000"/>
              <a:gd name="adj2" fmla="val 377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50920" y="2205000"/>
            <a:ext cx="217440" cy="144360"/>
          </a:xfrm>
          <a:prstGeom prst="leftArrow">
            <a:avLst>
              <a:gd name="adj1" fmla="val 50000"/>
              <a:gd name="adj2" fmla="val 3765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227640" y="2060640"/>
            <a:ext cx="503280" cy="43164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5" name=""/>
          <p:cNvGraphicFramePr/>
          <p:nvPr/>
        </p:nvGraphicFramePr>
        <p:xfrm>
          <a:off x="539640" y="1268280"/>
          <a:ext cx="8280360" cy="4743720"/>
        </p:xfrm>
        <a:graphic>
          <a:graphicData uri="http://schemas.openxmlformats.org/drawingml/2006/table">
            <a:tbl>
              <a:tblPr/>
              <a:tblGrid>
                <a:gridCol w="790560"/>
                <a:gridCol w="865080"/>
                <a:gridCol w="1084320"/>
                <a:gridCol w="912960"/>
                <a:gridCol w="912600"/>
                <a:gridCol w="912960"/>
                <a:gridCol w="914400"/>
                <a:gridCol w="912960"/>
                <a:gridCol w="97452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a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6/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4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/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0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/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= 12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6/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/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/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/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= 12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2484720" y="2060640"/>
            <a:ext cx="959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88000" y="3068640"/>
            <a:ext cx="70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  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836720" y="3068640"/>
            <a:ext cx="41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249280" y="299088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484360" y="2133720"/>
            <a:ext cx="1008000" cy="22320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850920" y="3068640"/>
            <a:ext cx="94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 -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564360" y="3144960"/>
            <a:ext cx="40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717800" y="299736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074200" y="2060640"/>
            <a:ext cx="817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003640" y="2133720"/>
            <a:ext cx="1008360" cy="22320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276720" y="5300640"/>
            <a:ext cx="29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732720" y="4941720"/>
            <a:ext cx="1512720" cy="1079640"/>
          </a:xfrm>
          <a:custGeom>
            <a:avLst/>
            <a:gdLst/>
            <a:ahLst/>
            <a:rect l="l" t="t" r="r" b="b"/>
            <a:pathLst>
              <a:path w="1956" h="1362">
                <a:moveTo>
                  <a:pt x="9" y="1362"/>
                </a:moveTo>
                <a:lnTo>
                  <a:pt x="0" y="0"/>
                </a:lnTo>
                <a:lnTo>
                  <a:pt x="974" y="290"/>
                </a:lnTo>
                <a:lnTo>
                  <a:pt x="1764" y="905"/>
                </a:lnTo>
                <a:lnTo>
                  <a:pt x="1956" y="1362"/>
                </a:lnTo>
                <a:lnTo>
                  <a:pt x="9" y="136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6732720" y="458136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732720" y="6021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451640" y="5157720"/>
            <a:ext cx="647640" cy="503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2484720" y="2060640"/>
            <a:ext cx="959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188000" y="3068640"/>
            <a:ext cx="70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  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836360" y="3071880"/>
            <a:ext cx="39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249280" y="299088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484360" y="2133720"/>
            <a:ext cx="1008000" cy="22320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64360" y="3068640"/>
            <a:ext cx="8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564360" y="3144960"/>
            <a:ext cx="40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29080" y="299736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860000" y="2060640"/>
            <a:ext cx="817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788000" y="2133720"/>
            <a:ext cx="1008000" cy="22320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jemplo: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941080" y="306864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733080" y="2060640"/>
            <a:ext cx="959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732720" y="2133720"/>
            <a:ext cx="1008000" cy="22320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732720" y="4941720"/>
            <a:ext cx="1512720" cy="1079640"/>
          </a:xfrm>
          <a:custGeom>
            <a:avLst/>
            <a:gdLst/>
            <a:ahLst/>
            <a:rect l="l" t="t" r="r" b="b"/>
            <a:pathLst>
              <a:path w="1956" h="1362">
                <a:moveTo>
                  <a:pt x="9" y="1362"/>
                </a:moveTo>
                <a:lnTo>
                  <a:pt x="0" y="0"/>
                </a:lnTo>
                <a:lnTo>
                  <a:pt x="974" y="290"/>
                </a:lnTo>
                <a:lnTo>
                  <a:pt x="1764" y="905"/>
                </a:lnTo>
                <a:lnTo>
                  <a:pt x="1956" y="1362"/>
                </a:lnTo>
                <a:lnTo>
                  <a:pt x="9" y="136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732720" y="458136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732720" y="6021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89920" y="566100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2484720" y="2060640"/>
            <a:ext cx="959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188000" y="3068640"/>
            <a:ext cx="70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  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836360" y="3071880"/>
            <a:ext cx="39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249280" y="299088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484360" y="2133720"/>
            <a:ext cx="1008000" cy="22320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635640" y="3068640"/>
            <a:ext cx="8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64360" y="3144960"/>
            <a:ext cx="40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502160" y="299736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932720" y="2060640"/>
            <a:ext cx="817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59280" y="2133720"/>
            <a:ext cx="1008000" cy="22320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jemplo: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085440" y="306864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802920" y="2060640"/>
            <a:ext cx="817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732720" y="2133720"/>
            <a:ext cx="1008000" cy="22320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734160" y="6037200"/>
            <a:ext cx="2090880" cy="1800"/>
          </a:xfrm>
          <a:custGeom>
            <a:avLst/>
            <a:gdLst/>
            <a:ahLst/>
            <a:rect l="l" t="t" r="r" b="b"/>
            <a:pathLst>
              <a:path w="1317" h="1">
                <a:moveTo>
                  <a:pt x="0" y="0"/>
                </a:moveTo>
                <a:lnTo>
                  <a:pt x="1317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6732720" y="458136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732720" y="4941720"/>
            <a:ext cx="1512720" cy="1079640"/>
          </a:xfrm>
          <a:custGeom>
            <a:avLst/>
            <a:gdLst/>
            <a:ahLst/>
            <a:rect l="l" t="t" r="r" b="b"/>
            <a:pathLst>
              <a:path w="1956" h="1362">
                <a:moveTo>
                  <a:pt x="9" y="1362"/>
                </a:moveTo>
                <a:lnTo>
                  <a:pt x="0" y="0"/>
                </a:lnTo>
                <a:lnTo>
                  <a:pt x="974" y="290"/>
                </a:lnTo>
                <a:lnTo>
                  <a:pt x="1764" y="905"/>
                </a:lnTo>
                <a:lnTo>
                  <a:pt x="1956" y="1362"/>
                </a:lnTo>
                <a:lnTo>
                  <a:pt x="9" y="136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451640" y="515772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2484720" y="2060640"/>
            <a:ext cx="959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972360" y="3068640"/>
            <a:ext cx="70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  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764720" y="3068640"/>
            <a:ext cx="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,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249280" y="299088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484360" y="2133720"/>
            <a:ext cx="1008000" cy="22320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64360" y="3068640"/>
            <a:ext cx="102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,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64360" y="3144960"/>
            <a:ext cx="40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502160" y="299736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932720" y="2060640"/>
            <a:ext cx="817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859280" y="2133720"/>
            <a:ext cx="1008000" cy="22320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jemplo: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= 0,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085440" y="306864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804360" y="2060640"/>
            <a:ext cx="817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9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8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732720" y="2205000"/>
            <a:ext cx="1008000" cy="22320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6732720" y="458136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732720" y="4941720"/>
            <a:ext cx="1512720" cy="1079640"/>
          </a:xfrm>
          <a:custGeom>
            <a:avLst/>
            <a:gdLst/>
            <a:ahLst/>
            <a:rect l="l" t="t" r="r" b="b"/>
            <a:pathLst>
              <a:path w="1956" h="1362">
                <a:moveTo>
                  <a:pt x="9" y="1362"/>
                </a:moveTo>
                <a:lnTo>
                  <a:pt x="0" y="0"/>
                </a:lnTo>
                <a:lnTo>
                  <a:pt x="974" y="290"/>
                </a:lnTo>
                <a:lnTo>
                  <a:pt x="1764" y="905"/>
                </a:lnTo>
                <a:lnTo>
                  <a:pt x="1956" y="1362"/>
                </a:lnTo>
                <a:lnTo>
                  <a:pt x="9" y="136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661160" y="530064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734160" y="6037200"/>
            <a:ext cx="2090880" cy="1800"/>
          </a:xfrm>
          <a:custGeom>
            <a:avLst/>
            <a:gdLst/>
            <a:ahLst/>
            <a:rect l="l" t="t" r="r" b="b"/>
            <a:pathLst>
              <a:path w="1317" h="1">
                <a:moveTo>
                  <a:pt x="0" y="0"/>
                </a:moveTo>
                <a:lnTo>
                  <a:pt x="1317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2484720" y="2060640"/>
            <a:ext cx="959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972360" y="3068640"/>
            <a:ext cx="70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  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764720" y="3068640"/>
            <a:ext cx="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,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249280" y="299088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484360" y="2133720"/>
            <a:ext cx="1008000" cy="22320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564360" y="3068640"/>
            <a:ext cx="102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,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564360" y="3144960"/>
            <a:ext cx="40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502160" y="299736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932720" y="2060640"/>
            <a:ext cx="817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859280" y="2133720"/>
            <a:ext cx="1008000" cy="22320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jemplo: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= 0,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085440" y="306864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804360" y="2060640"/>
            <a:ext cx="817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3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7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732720" y="2205000"/>
            <a:ext cx="1008000" cy="22320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6732720" y="458136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732720" y="4941720"/>
            <a:ext cx="1512720" cy="1079640"/>
          </a:xfrm>
          <a:custGeom>
            <a:avLst/>
            <a:gdLst/>
            <a:ahLst/>
            <a:rect l="l" t="t" r="r" b="b"/>
            <a:pathLst>
              <a:path w="1956" h="1362">
                <a:moveTo>
                  <a:pt x="9" y="1362"/>
                </a:moveTo>
                <a:lnTo>
                  <a:pt x="0" y="0"/>
                </a:lnTo>
                <a:lnTo>
                  <a:pt x="974" y="290"/>
                </a:lnTo>
                <a:lnTo>
                  <a:pt x="1764" y="905"/>
                </a:lnTo>
                <a:lnTo>
                  <a:pt x="1956" y="1362"/>
                </a:lnTo>
                <a:lnTo>
                  <a:pt x="9" y="136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812000" y="544500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734160" y="6037200"/>
            <a:ext cx="2090880" cy="1800"/>
          </a:xfrm>
          <a:custGeom>
            <a:avLst/>
            <a:gdLst/>
            <a:ahLst/>
            <a:rect l="l" t="t" r="r" b="b"/>
            <a:pathLst>
              <a:path w="1317" h="1">
                <a:moveTo>
                  <a:pt x="0" y="0"/>
                </a:moveTo>
                <a:lnTo>
                  <a:pt x="1317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468360" y="1817640"/>
          <a:ext cx="8351280" cy="5040000"/>
        </p:xfrm>
        <a:graphic>
          <a:graphicData uri="http://schemas.openxmlformats.org/drawingml/2006/table">
            <a:tbl>
              <a:tblPr/>
              <a:tblGrid>
                <a:gridCol w="8351280"/>
              </a:tblGrid>
              <a:tr h="50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s-ES_tradnl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=  48.000                          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s-ES_tradnl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=  42.000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–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s-ES_tradnl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=    1.500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755640" y="2349360"/>
            <a:ext cx="216000" cy="2087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IMERA BASE DEL “SIMPLEX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35640" y="3860640"/>
            <a:ext cx="504720" cy="287640"/>
          </a:xfrm>
          <a:prstGeom prst="rightArrow">
            <a:avLst>
              <a:gd name="adj1" fmla="val 50000"/>
              <a:gd name="adj2" fmla="val 43867"/>
            </a:avLst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227640" y="3716280"/>
            <a:ext cx="22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VULNERA EL PRINCIPIO DE 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3" name=""/>
          <p:cNvGraphicFramePr/>
          <p:nvPr/>
        </p:nvGraphicFramePr>
        <p:xfrm>
          <a:off x="1332000" y="1125360"/>
          <a:ext cx="6696000" cy="5040000"/>
        </p:xfrm>
        <a:graphic>
          <a:graphicData uri="http://schemas.openxmlformats.org/drawingml/2006/table">
            <a:tbl>
              <a:tblPr/>
              <a:tblGrid>
                <a:gridCol w="6696000"/>
              </a:tblGrid>
              <a:tr h="50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MAX: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Z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4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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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4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35.0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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6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48.000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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9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36.0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4" name=""/>
          <p:cNvSpPr/>
          <p:nvPr/>
        </p:nvSpPr>
        <p:spPr>
          <a:xfrm>
            <a:off x="1476360" y="2349360"/>
            <a:ext cx="216000" cy="2087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 flipV="1">
            <a:off x="1692360" y="333360"/>
            <a:ext cx="0" cy="496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692360" y="5300640"/>
            <a:ext cx="6912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116000" y="260280"/>
            <a:ext cx="573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172360" y="5300640"/>
            <a:ext cx="573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189080" y="4437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117800" y="371628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189080" y="29973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486160" y="544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357800" y="544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549440" y="544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421080" y="544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755640" y="1628640"/>
            <a:ext cx="5904000" cy="46087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564000" y="189000"/>
            <a:ext cx="1655640" cy="61927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2268000" y="549360"/>
            <a:ext cx="3095640" cy="55418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858120" y="1197000"/>
            <a:ext cx="76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986480" y="1197000"/>
            <a:ext cx="76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62480" y="1341360"/>
            <a:ext cx="76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632560" y="2254320"/>
            <a:ext cx="18396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50920" y="4149720"/>
            <a:ext cx="2952720" cy="2374920"/>
          </a:xfrm>
          <a:custGeom>
            <a:avLst/>
            <a:gdLst/>
            <a:ahLst/>
            <a:rect l="l" t="t" r="r" b="b"/>
            <a:pathLst>
              <a:path w="1277" h="2853">
                <a:moveTo>
                  <a:pt x="0" y="0"/>
                </a:moveTo>
                <a:lnTo>
                  <a:pt x="1277" y="2853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2627280" y="5373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3564000" y="5373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4500720" y="5373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547640" y="4581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547640" y="38606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547640" y="3141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692360" y="2349360"/>
            <a:ext cx="3240000" cy="2951280"/>
          </a:xfrm>
          <a:custGeom>
            <a:avLst/>
            <a:gdLst/>
            <a:ahLst/>
            <a:rect l="l" t="t" r="r" b="b"/>
            <a:pathLst>
              <a:path w="2041" h="1859">
                <a:moveTo>
                  <a:pt x="0" y="1859"/>
                </a:moveTo>
                <a:lnTo>
                  <a:pt x="0" y="0"/>
                </a:lnTo>
                <a:lnTo>
                  <a:pt x="1769" y="1406"/>
                </a:lnTo>
                <a:lnTo>
                  <a:pt x="2041" y="1859"/>
                </a:lnTo>
                <a:lnTo>
                  <a:pt x="0" y="185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427640" y="4508640"/>
            <a:ext cx="144360" cy="14256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619280" y="5229360"/>
            <a:ext cx="144360" cy="14292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859280" y="5229360"/>
            <a:ext cx="144360" cy="14292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619280" y="2276640"/>
            <a:ext cx="144360" cy="14256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5" name=""/>
          <p:cNvGraphicFramePr/>
          <p:nvPr/>
        </p:nvGraphicFramePr>
        <p:xfrm>
          <a:off x="539640" y="1268280"/>
          <a:ext cx="8280360" cy="2767320"/>
        </p:xfrm>
        <a:graphic>
          <a:graphicData uri="http://schemas.openxmlformats.org/drawingml/2006/table">
            <a:tbl>
              <a:tblPr/>
              <a:tblGrid>
                <a:gridCol w="790560"/>
                <a:gridCol w="865440"/>
                <a:gridCol w="1083960"/>
                <a:gridCol w="912960"/>
                <a:gridCol w="912960"/>
                <a:gridCol w="912600"/>
                <a:gridCol w="914400"/>
                <a:gridCol w="912960"/>
                <a:gridCol w="97452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a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=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6" name=""/>
          <p:cNvSpPr/>
          <p:nvPr/>
        </p:nvSpPr>
        <p:spPr>
          <a:xfrm>
            <a:off x="3635280" y="3645000"/>
            <a:ext cx="142920" cy="215640"/>
          </a:xfrm>
          <a:prstGeom prst="upArrow">
            <a:avLst>
              <a:gd name="adj1" fmla="val 50000"/>
              <a:gd name="adj2" fmla="val 377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854880" y="5300640"/>
            <a:ext cx="26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EMPATE DE </a:t>
            </a:r>
            <a:r>
              <a:rPr b="0" lang="el-GR" sz="2800" spc="-1" strike="noStrike">
                <a:solidFill>
                  <a:srgbClr val="ff0000"/>
                </a:solidFill>
                <a:latin typeface="Arial"/>
                <a:ea typeface="Arial"/>
              </a:rPr>
              <a:t>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5292720" y="2421000"/>
            <a:ext cx="2664000" cy="2736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9" name=""/>
          <p:cNvGraphicFramePr/>
          <p:nvPr/>
        </p:nvGraphicFramePr>
        <p:xfrm>
          <a:off x="7885080" y="1628640"/>
          <a:ext cx="974880" cy="1581120"/>
        </p:xfrm>
        <a:graphic>
          <a:graphicData uri="http://schemas.openxmlformats.org/drawingml/2006/table">
            <a:tbl>
              <a:tblPr/>
              <a:tblGrid>
                <a:gridCol w="97488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0" name=""/>
          <p:cNvSpPr/>
          <p:nvPr/>
        </p:nvSpPr>
        <p:spPr>
          <a:xfrm>
            <a:off x="7956720" y="2060640"/>
            <a:ext cx="863280" cy="720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1" name=""/>
          <p:cNvGraphicFramePr/>
          <p:nvPr/>
        </p:nvGraphicFramePr>
        <p:xfrm>
          <a:off x="611280" y="189000"/>
          <a:ext cx="7705800" cy="1185840"/>
        </p:xfrm>
        <a:graphic>
          <a:graphicData uri="http://schemas.openxmlformats.org/drawingml/2006/table">
            <a:tbl>
              <a:tblPr/>
              <a:tblGrid>
                <a:gridCol w="784080"/>
                <a:gridCol w="777960"/>
                <a:gridCol w="977760"/>
                <a:gridCol w="822600"/>
                <a:gridCol w="820440"/>
                <a:gridCol w="822600"/>
                <a:gridCol w="823680"/>
                <a:gridCol w="820800"/>
                <a:gridCol w="105588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a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2" name=""/>
          <p:cNvGraphicFramePr/>
          <p:nvPr/>
        </p:nvGraphicFramePr>
        <p:xfrm>
          <a:off x="611280" y="981000"/>
          <a:ext cx="7705800" cy="2008440"/>
        </p:xfrm>
        <a:graphic>
          <a:graphicData uri="http://schemas.openxmlformats.org/drawingml/2006/table">
            <a:tbl>
              <a:tblPr/>
              <a:tblGrid>
                <a:gridCol w="784080"/>
                <a:gridCol w="777960"/>
                <a:gridCol w="977760"/>
                <a:gridCol w="822600"/>
                <a:gridCol w="820440"/>
                <a:gridCol w="822600"/>
                <a:gridCol w="823680"/>
                <a:gridCol w="820800"/>
                <a:gridCol w="105588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= 14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3" name=""/>
          <p:cNvSpPr/>
          <p:nvPr/>
        </p:nvSpPr>
        <p:spPr>
          <a:xfrm>
            <a:off x="4356000" y="2565360"/>
            <a:ext cx="144720" cy="216000"/>
          </a:xfrm>
          <a:prstGeom prst="upArrow">
            <a:avLst>
              <a:gd name="adj1" fmla="val 50000"/>
              <a:gd name="adj2" fmla="val 373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68360" y="1484280"/>
            <a:ext cx="217440" cy="142920"/>
          </a:xfrm>
          <a:prstGeom prst="leftArrow">
            <a:avLst>
              <a:gd name="adj1" fmla="val 50000"/>
              <a:gd name="adj2" fmla="val 3803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140360" y="1341360"/>
            <a:ext cx="504720" cy="50328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6" name=""/>
          <p:cNvGraphicFramePr/>
          <p:nvPr/>
        </p:nvGraphicFramePr>
        <p:xfrm>
          <a:off x="611280" y="2924280"/>
          <a:ext cx="7777080" cy="2016000"/>
        </p:xfrm>
        <a:graphic>
          <a:graphicData uri="http://schemas.openxmlformats.org/drawingml/2006/table">
            <a:tbl>
              <a:tblPr/>
              <a:tblGrid>
                <a:gridCol w="784080"/>
                <a:gridCol w="777960"/>
                <a:gridCol w="977760"/>
                <a:gridCol w="822600"/>
                <a:gridCol w="820440"/>
                <a:gridCol w="822600"/>
                <a:gridCol w="823680"/>
                <a:gridCol w="820800"/>
                <a:gridCol w="1127160"/>
              </a:tblGrid>
              <a:tr h="44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= 14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6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7" name=""/>
          <p:cNvGraphicFramePr/>
          <p:nvPr/>
        </p:nvGraphicFramePr>
        <p:xfrm>
          <a:off x="611280" y="4842000"/>
          <a:ext cx="7777080" cy="2009520"/>
        </p:xfrm>
        <a:graphic>
          <a:graphicData uri="http://schemas.openxmlformats.org/drawingml/2006/table">
            <a:tbl>
              <a:tblPr/>
              <a:tblGrid>
                <a:gridCol w="784080"/>
                <a:gridCol w="777960"/>
                <a:gridCol w="977760"/>
                <a:gridCol w="822600"/>
                <a:gridCol w="820440"/>
                <a:gridCol w="822600"/>
                <a:gridCol w="823680"/>
                <a:gridCol w="820800"/>
                <a:gridCol w="1127160"/>
              </a:tblGrid>
              <a:tr h="44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6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16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2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2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= 15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6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2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8" name=""/>
          <p:cNvSpPr/>
          <p:nvPr/>
        </p:nvSpPr>
        <p:spPr>
          <a:xfrm>
            <a:off x="5148360" y="4508640"/>
            <a:ext cx="144360" cy="215640"/>
          </a:xfrm>
          <a:prstGeom prst="upArrow">
            <a:avLst>
              <a:gd name="adj1" fmla="val 50000"/>
              <a:gd name="adj2" fmla="val 373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68360" y="3860640"/>
            <a:ext cx="217440" cy="142920"/>
          </a:xfrm>
          <a:prstGeom prst="leftArrow">
            <a:avLst>
              <a:gd name="adj1" fmla="val 50000"/>
              <a:gd name="adj2" fmla="val 3803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003640" y="3716280"/>
            <a:ext cx="432000" cy="43344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1" name=""/>
          <p:cNvGraphicFramePr/>
          <p:nvPr/>
        </p:nvGraphicFramePr>
        <p:xfrm>
          <a:off x="1187280" y="1557360"/>
          <a:ext cx="6696000" cy="5040000"/>
        </p:xfrm>
        <a:graphic>
          <a:graphicData uri="http://schemas.openxmlformats.org/drawingml/2006/table">
            <a:tbl>
              <a:tblPr/>
              <a:tblGrid>
                <a:gridCol w="6696000"/>
              </a:tblGrid>
              <a:tr h="50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MAX: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Z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4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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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8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48.0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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10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6.000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9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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9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36.0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2" name=""/>
          <p:cNvSpPr/>
          <p:nvPr/>
        </p:nvSpPr>
        <p:spPr>
          <a:xfrm>
            <a:off x="1403280" y="2637000"/>
            <a:ext cx="216000" cy="2087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360 h 2087280"/>
              <a:gd name="textAreaBottom" fmla="*/ 20329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272320" y="476280"/>
            <a:ext cx="364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LITOPO ABIER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 flipV="1">
            <a:off x="1692360" y="333360"/>
            <a:ext cx="0" cy="496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92360" y="5300640"/>
            <a:ext cx="6912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042920" y="0"/>
            <a:ext cx="573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8172360" y="5300640"/>
            <a:ext cx="573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189080" y="4437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117800" y="371628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189080" y="29973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486160" y="544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357800" y="544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549440" y="544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421080" y="544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1692360" y="259920"/>
            <a:ext cx="2735280" cy="208908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763640" y="765000"/>
            <a:ext cx="3960720" cy="45356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flipH="1">
            <a:off x="1692360" y="1916280"/>
            <a:ext cx="6767280" cy="23047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226480" y="4437000"/>
            <a:ext cx="76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242840" y="2276640"/>
            <a:ext cx="76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634120" y="765000"/>
            <a:ext cx="76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632560" y="2254320"/>
            <a:ext cx="18396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50920" y="4149720"/>
            <a:ext cx="2952720" cy="2374920"/>
          </a:xfrm>
          <a:custGeom>
            <a:avLst/>
            <a:gdLst/>
            <a:ahLst/>
            <a:rect l="l" t="t" r="r" b="b"/>
            <a:pathLst>
              <a:path w="1277" h="2853">
                <a:moveTo>
                  <a:pt x="0" y="0"/>
                </a:moveTo>
                <a:lnTo>
                  <a:pt x="1277" y="2853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2627280" y="5373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3564000" y="5373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4500720" y="5373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547640" y="4581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547640" y="38606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547640" y="3141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619280" y="5229360"/>
            <a:ext cx="144360" cy="14292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619280" y="4149720"/>
            <a:ext cx="144360" cy="14292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149800" y="544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5292720" y="5373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5940360" y="5373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797800" y="544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556000" y="228600"/>
            <a:ext cx="5837040" cy="3166920"/>
          </a:xfrm>
          <a:custGeom>
            <a:avLst/>
            <a:gdLst/>
            <a:ahLst/>
            <a:rect l="l" t="t" r="r" b="b"/>
            <a:pathLst>
              <a:path w="3677" h="1995">
                <a:moveTo>
                  <a:pt x="1179" y="20"/>
                </a:moveTo>
                <a:lnTo>
                  <a:pt x="0" y="927"/>
                </a:lnTo>
                <a:lnTo>
                  <a:pt x="968" y="1995"/>
                </a:lnTo>
                <a:lnTo>
                  <a:pt x="3674" y="1063"/>
                </a:lnTo>
                <a:cubicBezTo>
                  <a:pt x="3674" y="1051"/>
                  <a:pt x="3677" y="1038"/>
                  <a:pt x="3675" y="1026"/>
                </a:cubicBezTo>
                <a:cubicBezTo>
                  <a:pt x="3674" y="1016"/>
                  <a:pt x="3665" y="1009"/>
                  <a:pt x="3665" y="999"/>
                </a:cubicBezTo>
                <a:cubicBezTo>
                  <a:pt x="3665" y="968"/>
                  <a:pt x="3672" y="938"/>
                  <a:pt x="3675" y="907"/>
                </a:cubicBezTo>
                <a:cubicBezTo>
                  <a:pt x="3659" y="864"/>
                  <a:pt x="3645" y="873"/>
                  <a:pt x="3601" y="862"/>
                </a:cubicBezTo>
                <a:cubicBezTo>
                  <a:pt x="3583" y="850"/>
                  <a:pt x="3565" y="837"/>
                  <a:pt x="3547" y="825"/>
                </a:cubicBezTo>
                <a:cubicBezTo>
                  <a:pt x="3538" y="819"/>
                  <a:pt x="3519" y="807"/>
                  <a:pt x="3519" y="807"/>
                </a:cubicBezTo>
                <a:cubicBezTo>
                  <a:pt x="3467" y="738"/>
                  <a:pt x="3418" y="680"/>
                  <a:pt x="3345" y="633"/>
                </a:cubicBezTo>
                <a:cubicBezTo>
                  <a:pt x="3331" y="591"/>
                  <a:pt x="3309" y="552"/>
                  <a:pt x="3263" y="542"/>
                </a:cubicBezTo>
                <a:cubicBezTo>
                  <a:pt x="3230" y="535"/>
                  <a:pt x="3163" y="523"/>
                  <a:pt x="3163" y="523"/>
                </a:cubicBezTo>
                <a:cubicBezTo>
                  <a:pt x="3157" y="514"/>
                  <a:pt x="3152" y="504"/>
                  <a:pt x="3144" y="496"/>
                </a:cubicBezTo>
                <a:cubicBezTo>
                  <a:pt x="3133" y="485"/>
                  <a:pt x="3118" y="480"/>
                  <a:pt x="3108" y="469"/>
                </a:cubicBezTo>
                <a:cubicBezTo>
                  <a:pt x="3093" y="452"/>
                  <a:pt x="3086" y="430"/>
                  <a:pt x="3071" y="414"/>
                </a:cubicBezTo>
                <a:cubicBezTo>
                  <a:pt x="3065" y="408"/>
                  <a:pt x="3059" y="401"/>
                  <a:pt x="3053" y="395"/>
                </a:cubicBezTo>
                <a:cubicBezTo>
                  <a:pt x="3037" y="346"/>
                  <a:pt x="3015" y="306"/>
                  <a:pt x="2971" y="277"/>
                </a:cubicBezTo>
                <a:cubicBezTo>
                  <a:pt x="2956" y="283"/>
                  <a:pt x="2941" y="294"/>
                  <a:pt x="2925" y="295"/>
                </a:cubicBezTo>
                <a:cubicBezTo>
                  <a:pt x="2820" y="301"/>
                  <a:pt x="2759" y="279"/>
                  <a:pt x="2678" y="222"/>
                </a:cubicBezTo>
                <a:cubicBezTo>
                  <a:pt x="2649" y="202"/>
                  <a:pt x="2620" y="154"/>
                  <a:pt x="2587" y="130"/>
                </a:cubicBezTo>
                <a:cubicBezTo>
                  <a:pt x="2567" y="116"/>
                  <a:pt x="2543" y="108"/>
                  <a:pt x="2523" y="94"/>
                </a:cubicBezTo>
                <a:cubicBezTo>
                  <a:pt x="2413" y="104"/>
                  <a:pt x="2302" y="103"/>
                  <a:pt x="2193" y="121"/>
                </a:cubicBezTo>
                <a:cubicBezTo>
                  <a:pt x="2147" y="118"/>
                  <a:pt x="2101" y="122"/>
                  <a:pt x="2056" y="112"/>
                </a:cubicBezTo>
                <a:cubicBezTo>
                  <a:pt x="2044" y="109"/>
                  <a:pt x="2039" y="93"/>
                  <a:pt x="2029" y="85"/>
                </a:cubicBezTo>
                <a:cubicBezTo>
                  <a:pt x="1994" y="58"/>
                  <a:pt x="1960" y="34"/>
                  <a:pt x="1919" y="21"/>
                </a:cubicBezTo>
                <a:cubicBezTo>
                  <a:pt x="1822" y="37"/>
                  <a:pt x="1734" y="80"/>
                  <a:pt x="1636" y="94"/>
                </a:cubicBezTo>
                <a:cubicBezTo>
                  <a:pt x="1606" y="0"/>
                  <a:pt x="1500" y="57"/>
                  <a:pt x="1425" y="75"/>
                </a:cubicBezTo>
                <a:cubicBezTo>
                  <a:pt x="1375" y="77"/>
                  <a:pt x="1361" y="72"/>
                  <a:pt x="1334" y="75"/>
                </a:cubicBezTo>
                <a:cubicBezTo>
                  <a:pt x="1308" y="78"/>
                  <a:pt x="1288" y="97"/>
                  <a:pt x="1270" y="94"/>
                </a:cubicBezTo>
                <a:cubicBezTo>
                  <a:pt x="1253" y="91"/>
                  <a:pt x="1240" y="65"/>
                  <a:pt x="1224" y="57"/>
                </a:cubicBezTo>
                <a:cubicBezTo>
                  <a:pt x="1174" y="33"/>
                  <a:pt x="1195" y="70"/>
                  <a:pt x="1179" y="2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995640" y="3357720"/>
            <a:ext cx="14472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547640" y="2349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547640" y="765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547640" y="1557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189080" y="220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189080" y="1413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1692360" y="429264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1763640" y="3429000"/>
            <a:ext cx="223200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4140360" y="3141720"/>
            <a:ext cx="71892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79769E-006 L 0.45677 -0.20462 E">
                                      <p:cBhvr>
                                        <p:cTn id="399" dur="2000" fill="hold"/>
                                        <p:tgtEl>
                                          <p:spTgt spid="5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5" name=""/>
          <p:cNvGraphicFramePr/>
          <p:nvPr/>
        </p:nvGraphicFramePr>
        <p:xfrm>
          <a:off x="539640" y="1628640"/>
          <a:ext cx="8280360" cy="2767320"/>
        </p:xfrm>
        <a:graphic>
          <a:graphicData uri="http://schemas.openxmlformats.org/drawingml/2006/table">
            <a:tbl>
              <a:tblPr/>
              <a:tblGrid>
                <a:gridCol w="790560"/>
                <a:gridCol w="720720"/>
                <a:gridCol w="255600"/>
                <a:gridCol w="973080"/>
                <a:gridCol w="860760"/>
                <a:gridCol w="576000"/>
                <a:gridCol w="1079640"/>
                <a:gridCol w="1136520"/>
                <a:gridCol w="912960"/>
                <a:gridCol w="97452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a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66,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07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6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66,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03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07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40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3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= 18.666,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39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1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6" name=""/>
          <p:cNvSpPr/>
          <p:nvPr/>
        </p:nvSpPr>
        <p:spPr>
          <a:xfrm>
            <a:off x="5219640" y="4076640"/>
            <a:ext cx="142920" cy="216000"/>
          </a:xfrm>
          <a:prstGeom prst="upArrow">
            <a:avLst>
              <a:gd name="adj1" fmla="val 50000"/>
              <a:gd name="adj2" fmla="val 377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568680" y="5229360"/>
            <a:ext cx="341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NO HAY NINGÚN </a:t>
            </a:r>
            <a:r>
              <a:rPr b="0" lang="el-GR" sz="2800" spc="-1" strike="noStrike">
                <a:solidFill>
                  <a:srgbClr val="ff0000"/>
                </a:solidFill>
                <a:latin typeface="Arial"/>
                <a:ea typeface="Arial"/>
              </a:rPr>
              <a:t>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5292720" y="2924280"/>
            <a:ext cx="2592360" cy="2233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7812000" y="1989000"/>
          <a:ext cx="974880" cy="1581120"/>
        </p:xfrm>
        <a:graphic>
          <a:graphicData uri="http://schemas.openxmlformats.org/drawingml/2006/table">
            <a:tbl>
              <a:tblPr/>
              <a:tblGrid>
                <a:gridCol w="97488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0" name=""/>
          <p:cNvSpPr/>
          <p:nvPr/>
        </p:nvSpPr>
        <p:spPr>
          <a:xfrm>
            <a:off x="7885080" y="2421000"/>
            <a:ext cx="863640" cy="1079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492360" y="8366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3a. TAB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2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2" name=""/>
          <p:cNvGraphicFramePr/>
          <p:nvPr/>
        </p:nvGraphicFramePr>
        <p:xfrm>
          <a:off x="1187280" y="1557360"/>
          <a:ext cx="6696000" cy="5040000"/>
        </p:xfrm>
        <a:graphic>
          <a:graphicData uri="http://schemas.openxmlformats.org/drawingml/2006/table">
            <a:tbl>
              <a:tblPr/>
              <a:tblGrid>
                <a:gridCol w="6696000"/>
              </a:tblGrid>
              <a:tr h="50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MAX: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Z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4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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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8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48.0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2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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6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42.000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9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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9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36.0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3" name=""/>
          <p:cNvSpPr/>
          <p:nvPr/>
        </p:nvSpPr>
        <p:spPr>
          <a:xfrm>
            <a:off x="1403280" y="2637000"/>
            <a:ext cx="216000" cy="2087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360 h 2087280"/>
              <a:gd name="textAreaBottom" fmla="*/ 20329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274480" y="476280"/>
            <a:ext cx="477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OLUCIÓN INCOMPAT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1692360" y="5300640"/>
            <a:ext cx="6912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042920" y="0"/>
            <a:ext cx="573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8172360" y="5300640"/>
            <a:ext cx="573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486160" y="544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357800" y="544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549440" y="544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421080" y="544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1692360" y="691920"/>
            <a:ext cx="2735280" cy="208908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692360" y="3141720"/>
            <a:ext cx="4032000" cy="21589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1692360" y="1916280"/>
            <a:ext cx="6767280" cy="23047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226480" y="4437000"/>
            <a:ext cx="76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78480" y="1844640"/>
            <a:ext cx="76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163200" y="2637000"/>
            <a:ext cx="76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632560" y="2254320"/>
            <a:ext cx="18396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50920" y="4149720"/>
            <a:ext cx="2952720" cy="2374920"/>
          </a:xfrm>
          <a:custGeom>
            <a:avLst/>
            <a:gdLst/>
            <a:ahLst/>
            <a:rect l="l" t="t" r="r" b="b"/>
            <a:pathLst>
              <a:path w="1277" h="2853">
                <a:moveTo>
                  <a:pt x="0" y="0"/>
                </a:moveTo>
                <a:lnTo>
                  <a:pt x="1277" y="2853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2627280" y="5373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3564000" y="5373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4500720" y="5373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547640" y="4581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547640" y="38606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547640" y="3141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149800" y="544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5292720" y="5373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5940360" y="5373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797800" y="544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547640" y="2349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547640" y="765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547640" y="1557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189080" y="29973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1692360" y="333360"/>
            <a:ext cx="0" cy="496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3419640" y="4221000"/>
            <a:ext cx="288720" cy="5032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 flipV="1">
            <a:off x="2916000" y="1125360"/>
            <a:ext cx="360360" cy="4320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076720" y="3068640"/>
            <a:ext cx="216000" cy="57636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8" name=""/>
          <p:cNvGraphicFramePr/>
          <p:nvPr/>
        </p:nvGraphicFramePr>
        <p:xfrm>
          <a:off x="324000" y="1628640"/>
          <a:ext cx="8424720" cy="2525760"/>
        </p:xfrm>
        <a:graphic>
          <a:graphicData uri="http://schemas.openxmlformats.org/drawingml/2006/table">
            <a:tbl>
              <a:tblPr/>
              <a:tblGrid>
                <a:gridCol w="695160"/>
                <a:gridCol w="633600"/>
                <a:gridCol w="225360"/>
                <a:gridCol w="893520"/>
                <a:gridCol w="719280"/>
                <a:gridCol w="506520"/>
                <a:gridCol w="949320"/>
                <a:gridCol w="1000080"/>
                <a:gridCol w="1000080"/>
                <a:gridCol w="998640"/>
                <a:gridCol w="80316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s-ES_tradnl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s-ES_tradnl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s-ES_tradnl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s-ES_tradnl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s-ES_tradnl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s-ES_tradnl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s-ES_tradnl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s-ES_tradnl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µ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µ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s-ES_tradnl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8,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05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04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5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µ</a:t>
                      </a:r>
                      <a:r>
                        <a:rPr b="0" lang="es-ES_tradnl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.333,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3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96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s-ES_tradnl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05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6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5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=23.333,33M + 18.222,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3889 + 0,333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0123 + 0,968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889 + 0,6667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9" name=""/>
          <p:cNvSpPr/>
          <p:nvPr/>
        </p:nvSpPr>
        <p:spPr>
          <a:xfrm>
            <a:off x="3492360" y="8366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3a. TAB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575520" y="5229360"/>
            <a:ext cx="4926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TODOS LOS z</a:t>
            </a:r>
            <a:r>
              <a:rPr b="0" lang="es-ES_tradnl" sz="28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-c</a:t>
            </a:r>
            <a:r>
              <a:rPr b="0" lang="es-ES_tradnl" sz="28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 POSI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5580000" y="3860280"/>
            <a:ext cx="0" cy="1297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39640" y="4941720"/>
            <a:ext cx="280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VARIABLE ARTIFICIAL EN LA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H="1" flipV="1">
            <a:off x="1402920" y="2997000"/>
            <a:ext cx="360360" cy="1871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0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1116000" y="2781360"/>
          <a:ext cx="6121440" cy="3743280"/>
        </p:xfrm>
        <a:graphic>
          <a:graphicData uri="http://schemas.openxmlformats.org/drawingml/2006/table">
            <a:tbl>
              <a:tblPr/>
              <a:tblGrid>
                <a:gridCol w="6121440"/>
              </a:tblGrid>
              <a:tr h="469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s-ES_tradnl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=  48.000                          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s-ES_tradnl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=  42.000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–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s-ES_tradnl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µ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   1.500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µ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s-ES_tradnl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684360" y="2852640"/>
            <a:ext cx="215640" cy="2087640"/>
          </a:xfrm>
          <a:custGeom>
            <a:avLst/>
            <a:gdLst>
              <a:gd name="textAreaLeft" fmla="*/ 137880 w 215640"/>
              <a:gd name="textAreaRight" fmla="*/ 216000 w 21564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IMERA BASE DEL “SIMPLEX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4800" y="1628640"/>
            <a:ext cx="65466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99"/>
                </a:solidFill>
                <a:latin typeface="Arial"/>
              </a:rPr>
              <a:t>MAX: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    Z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 4 x</a:t>
            </a:r>
            <a:r>
              <a:rPr b="1" lang="es-ES_tradnl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 3 x</a:t>
            </a:r>
            <a:r>
              <a:rPr b="1" lang="es-ES_tradnl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 – M 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µ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00"/>
                </a:solidFill>
                <a:latin typeface="Arial"/>
              </a:rPr>
              <a:t>PROBLEMA DE MINIM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3640" y="1536840"/>
            <a:ext cx="521280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99cc00"/>
                </a:solidFill>
                <a:latin typeface="Arial"/>
              </a:rPr>
              <a:t>MIN:    Z 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= </a:t>
            </a:r>
            <a:r>
              <a:rPr b="0" lang="es-ES_tradnl" sz="3600" spc="-1" strike="noStrike">
                <a:solidFill>
                  <a:srgbClr val="99cc00"/>
                </a:solidFill>
                <a:latin typeface="Arial"/>
              </a:rPr>
              <a:t>...</a:t>
            </a:r>
            <a:r>
              <a:rPr b="1" lang="es-ES_tradnl" sz="36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s-ES_tradnl" sz="4400" spc="-1" strike="noStrike">
                <a:solidFill>
                  <a:srgbClr val="99cc00"/>
                </a:solidFill>
                <a:latin typeface="Arial"/>
              </a:rPr>
              <a:t>+</a:t>
            </a:r>
            <a:r>
              <a:rPr b="1" lang="es-ES_tradnl" sz="3600" spc="-1" strike="noStrike">
                <a:solidFill>
                  <a:srgbClr val="99cc00"/>
                </a:solidFill>
                <a:latin typeface="Arial"/>
              </a:rPr>
              <a:t> M . </a:t>
            </a: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µ</a:t>
            </a:r>
            <a:r>
              <a:rPr b="1" lang="en-US" sz="3600" spc="-1" strike="noStrike" baseline="-25000">
                <a:solidFill>
                  <a:srgbClr val="99cc00"/>
                </a:solidFill>
                <a:latin typeface="Arial"/>
              </a:rPr>
              <a:t>1</a:t>
            </a:r>
            <a:r>
              <a:rPr b="0" lang="es-ES_tradnl" sz="3600" spc="-1" strike="noStrike">
                <a:solidFill>
                  <a:srgbClr val="99cc00"/>
                </a:solidFill>
                <a:latin typeface="Arial"/>
              </a:rPr>
              <a:t> 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 flipV="1">
            <a:off x="1692360" y="333360"/>
            <a:ext cx="0" cy="496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92360" y="5300640"/>
            <a:ext cx="6912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16000" y="260280"/>
            <a:ext cx="573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172360" y="5300640"/>
            <a:ext cx="573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89080" y="4437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17800" y="371628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89080" y="29973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86160" y="544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57800" y="544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49440" y="544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21080" y="544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2781360"/>
            <a:ext cx="7128000" cy="20876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2771640" y="333360"/>
            <a:ext cx="2448000" cy="597528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55200" y="4365720"/>
            <a:ext cx="76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38840" y="981000"/>
            <a:ext cx="76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87200" y="3860640"/>
            <a:ext cx="76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32560" y="2254320"/>
            <a:ext cx="18396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408600">
            <a:off x="258840" y="4215960"/>
            <a:ext cx="2881080" cy="2232000"/>
          </a:xfrm>
          <a:custGeom>
            <a:avLst/>
            <a:gdLst/>
            <a:ahLst/>
            <a:rect l="l" t="t" r="r" b="b"/>
            <a:pathLst>
              <a:path w="1277" h="2853">
                <a:moveTo>
                  <a:pt x="0" y="0"/>
                </a:moveTo>
                <a:lnTo>
                  <a:pt x="1277" y="2853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627280" y="5373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564000" y="5373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4500720" y="5373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47640" y="4581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47640" y="38606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3141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92360" y="4221000"/>
            <a:ext cx="68403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92360" y="3141720"/>
            <a:ext cx="2663640" cy="1079280"/>
          </a:xfrm>
          <a:custGeom>
            <a:avLst/>
            <a:gdLst/>
            <a:ahLst/>
            <a:rect l="l" t="t" r="r" b="b"/>
            <a:pathLst>
              <a:path w="1678" h="680">
                <a:moveTo>
                  <a:pt x="0" y="680"/>
                </a:moveTo>
                <a:lnTo>
                  <a:pt x="0" y="0"/>
                </a:lnTo>
                <a:lnTo>
                  <a:pt x="1587" y="453"/>
                </a:lnTo>
                <a:lnTo>
                  <a:pt x="1678" y="680"/>
                </a:lnTo>
                <a:lnTo>
                  <a:pt x="0" y="68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619280" y="5229360"/>
            <a:ext cx="144360" cy="144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324000" y="333360"/>
          <a:ext cx="8351640" cy="2766960"/>
        </p:xfrm>
        <a:graphic>
          <a:graphicData uri="http://schemas.openxmlformats.org/drawingml/2006/table">
            <a:tbl>
              <a:tblPr/>
              <a:tblGrid>
                <a:gridCol w="784080"/>
                <a:gridCol w="777960"/>
                <a:gridCol w="977760"/>
                <a:gridCol w="822240"/>
                <a:gridCol w="820800"/>
                <a:gridCol w="822240"/>
                <a:gridCol w="824040"/>
                <a:gridCol w="820800"/>
                <a:gridCol w="824040"/>
                <a:gridCol w="87768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a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= -1.500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M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395280" y="3284640"/>
          <a:ext cx="8352000" cy="2766960"/>
        </p:xfrm>
        <a:graphic>
          <a:graphicData uri="http://schemas.openxmlformats.org/drawingml/2006/table">
            <a:tbl>
              <a:tblPr/>
              <a:tblGrid>
                <a:gridCol w="784080"/>
                <a:gridCol w="777960"/>
                <a:gridCol w="978120"/>
                <a:gridCol w="822240"/>
                <a:gridCol w="820800"/>
                <a:gridCol w="822240"/>
                <a:gridCol w="824040"/>
                <a:gridCol w="820440"/>
                <a:gridCol w="824040"/>
                <a:gridCol w="87804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a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= 4.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+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3995640" y="2708280"/>
            <a:ext cx="144720" cy="216000"/>
          </a:xfrm>
          <a:prstGeom prst="upArrow">
            <a:avLst>
              <a:gd name="adj1" fmla="val 50000"/>
              <a:gd name="adj2" fmla="val 373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2060640"/>
            <a:ext cx="217440" cy="142920"/>
          </a:xfrm>
          <a:prstGeom prst="leftArrow">
            <a:avLst>
              <a:gd name="adj1" fmla="val 50000"/>
              <a:gd name="adj2" fmla="val 3803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1916280"/>
            <a:ext cx="360360" cy="36036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 flipV="1">
            <a:off x="1692360" y="333360"/>
            <a:ext cx="0" cy="496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92360" y="5300640"/>
            <a:ext cx="6912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16000" y="260280"/>
            <a:ext cx="573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172360" y="5300640"/>
            <a:ext cx="573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89080" y="4437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17800" y="371628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89080" y="29973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86160" y="544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357800" y="544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49440" y="544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21080" y="544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8360" y="2781360"/>
            <a:ext cx="7128000" cy="20876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2771640" y="333360"/>
            <a:ext cx="2448000" cy="597528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55200" y="4365720"/>
            <a:ext cx="76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38840" y="981000"/>
            <a:ext cx="76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87200" y="3860640"/>
            <a:ext cx="76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632560" y="2254320"/>
            <a:ext cx="18396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408600">
            <a:off x="258840" y="4215960"/>
            <a:ext cx="2881080" cy="2232000"/>
          </a:xfrm>
          <a:custGeom>
            <a:avLst/>
            <a:gdLst/>
            <a:ahLst/>
            <a:rect l="l" t="t" r="r" b="b"/>
            <a:pathLst>
              <a:path w="1277" h="2853">
                <a:moveTo>
                  <a:pt x="0" y="0"/>
                </a:moveTo>
                <a:lnTo>
                  <a:pt x="1277" y="2853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627280" y="5373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564000" y="5373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4500720" y="5373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47640" y="4581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47640" y="38606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47640" y="3141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92360" y="4221000"/>
            <a:ext cx="68403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92360" y="3141720"/>
            <a:ext cx="2663640" cy="1079280"/>
          </a:xfrm>
          <a:custGeom>
            <a:avLst/>
            <a:gdLst/>
            <a:ahLst/>
            <a:rect l="l" t="t" r="r" b="b"/>
            <a:pathLst>
              <a:path w="1678" h="680">
                <a:moveTo>
                  <a:pt x="0" y="680"/>
                </a:moveTo>
                <a:lnTo>
                  <a:pt x="0" y="0"/>
                </a:lnTo>
                <a:lnTo>
                  <a:pt x="1587" y="453"/>
                </a:lnTo>
                <a:lnTo>
                  <a:pt x="1678" y="680"/>
                </a:lnTo>
                <a:lnTo>
                  <a:pt x="0" y="68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19280" y="5229360"/>
            <a:ext cx="144360" cy="144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19280" y="41497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1692360" y="429264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324000" y="189000"/>
          <a:ext cx="8351640" cy="1185840"/>
        </p:xfrm>
        <a:graphic>
          <a:graphicData uri="http://schemas.openxmlformats.org/drawingml/2006/table">
            <a:tbl>
              <a:tblPr/>
              <a:tblGrid>
                <a:gridCol w="784080"/>
                <a:gridCol w="777960"/>
                <a:gridCol w="977760"/>
                <a:gridCol w="822240"/>
                <a:gridCol w="820800"/>
                <a:gridCol w="822240"/>
                <a:gridCol w="824040"/>
                <a:gridCol w="820800"/>
                <a:gridCol w="824040"/>
                <a:gridCol w="87768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a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324000" y="981000"/>
          <a:ext cx="8351640" cy="2008080"/>
        </p:xfrm>
        <a:graphic>
          <a:graphicData uri="http://schemas.openxmlformats.org/drawingml/2006/table">
            <a:tbl>
              <a:tblPr/>
              <a:tblGrid>
                <a:gridCol w="784080"/>
                <a:gridCol w="777960"/>
                <a:gridCol w="977760"/>
                <a:gridCol w="822240"/>
                <a:gridCol w="820800"/>
                <a:gridCol w="822240"/>
                <a:gridCol w="824040"/>
                <a:gridCol w="820800"/>
                <a:gridCol w="824040"/>
                <a:gridCol w="87768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= 4.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+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3203640" y="2565360"/>
            <a:ext cx="144360" cy="216000"/>
          </a:xfrm>
          <a:prstGeom prst="upArrow">
            <a:avLst>
              <a:gd name="adj1" fmla="val 50000"/>
              <a:gd name="adj2" fmla="val 374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1557360"/>
            <a:ext cx="217440" cy="142920"/>
          </a:xfrm>
          <a:prstGeom prst="leftArrow">
            <a:avLst>
              <a:gd name="adj1" fmla="val 50000"/>
              <a:gd name="adj2" fmla="val 3803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132000" y="1413000"/>
            <a:ext cx="360360" cy="36036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24000" y="2924280"/>
          <a:ext cx="8351640" cy="2016000"/>
        </p:xfrm>
        <a:graphic>
          <a:graphicData uri="http://schemas.openxmlformats.org/drawingml/2006/table">
            <a:tbl>
              <a:tblPr/>
              <a:tblGrid>
                <a:gridCol w="784080"/>
                <a:gridCol w="777960"/>
                <a:gridCol w="977760"/>
                <a:gridCol w="822240"/>
                <a:gridCol w="820800"/>
                <a:gridCol w="822240"/>
                <a:gridCol w="824040"/>
                <a:gridCol w="820800"/>
                <a:gridCol w="824040"/>
                <a:gridCol w="877680"/>
              </a:tblGrid>
              <a:tr h="44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6,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6,92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8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= 15.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+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324000" y="4842000"/>
          <a:ext cx="8351640" cy="2158920"/>
        </p:xfrm>
        <a:graphic>
          <a:graphicData uri="http://schemas.openxmlformats.org/drawingml/2006/table">
            <a:tbl>
              <a:tblPr/>
              <a:tblGrid>
                <a:gridCol w="784080"/>
                <a:gridCol w="777960"/>
                <a:gridCol w="977760"/>
                <a:gridCol w="822240"/>
                <a:gridCol w="820800"/>
                <a:gridCol w="822240"/>
                <a:gridCol w="824040"/>
                <a:gridCol w="820800"/>
                <a:gridCol w="824040"/>
                <a:gridCol w="877680"/>
              </a:tblGrid>
              <a:tr h="44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6,92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7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03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61,5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03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0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76,9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7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03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= 16.076,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7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9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6516720" y="4508640"/>
            <a:ext cx="144360" cy="215640"/>
          </a:xfrm>
          <a:prstGeom prst="upArrow">
            <a:avLst>
              <a:gd name="adj1" fmla="val 50000"/>
              <a:gd name="adj2" fmla="val 373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" y="3068640"/>
            <a:ext cx="217440" cy="142920"/>
          </a:xfrm>
          <a:prstGeom prst="leftArrow">
            <a:avLst>
              <a:gd name="adj1" fmla="val 50000"/>
              <a:gd name="adj2" fmla="val 3803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72360" y="2924280"/>
            <a:ext cx="360360" cy="36036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5T19:41:02Z</dcterms:created>
  <dc:creator>Miguel Miranda</dc:creator>
  <dc:description/>
  <dc:language>en-US</dc:language>
  <cp:lastModifiedBy>Miguel Miranda</cp:lastModifiedBy>
  <dcterms:modified xsi:type="dcterms:W3CDTF">2006-03-20T22:17:02Z</dcterms:modified>
  <cp:revision>35</cp:revision>
  <dc:subject/>
  <dc:title>CASOS PARTICULARES</dc:title>
</cp:coreProperties>
</file>